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D33-D12D-4A41-A600-124CAFEF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8BB-5874-4050-A1B4-311327A2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489-789F-4D9A-98C9-EFD11020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66E-E93F-4231-B6C6-9A29468E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61B-1D01-4885-BD30-103DBAB6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0AE-3727-411B-8C61-273D4034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1D5-114A-4AC5-8DE7-4C3D39E8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6F5-B06D-4BFA-8454-77A3973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325-6622-47BB-912D-590B8DC9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B98-765B-4189-9675-6859C76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9F6-354E-4813-B97B-5A57001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57E-E123-47EA-835A-22BEB193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659-C8B9-4316-AECB-CB2C8795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mic"/>
              </a:rPr>
              <a:t>Team…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Forte"/>
              </a:rPr>
              <a:t>For some reason we are still not on Jon’s 2010Wiki3006 page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igans Island"/>
              </a:rPr>
              <a:t>I’m not sure what to do but we should try and fix this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38:08Z</dcterms:created>
  <dc:creator>Miriam</dc:creator>
  <dc:description/>
  <dc:language>en-US</dc:language>
  <cp:lastModifiedBy>Miriam</cp:lastModifiedBy>
  <dcterms:modified xsi:type="dcterms:W3CDTF">2010-08-25T11:38:20Z</dcterms:modified>
  <cp:revision>1</cp:revision>
  <dc:subject/>
  <dc:title>Team……</dc:title>
</cp:coreProperties>
</file>